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57B-A504-4D04-82AD-4481E51B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3A3-D773-42F5-B55F-BFFA854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681-63C8-4F57-8CD8-4FD2F957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619-8A57-48B1-991A-E4E362F7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703-8C90-4304-822F-6892AC7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0FC-200C-42B1-B2DD-0E36814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2AC-46B1-461F-BF4C-324BC0C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3A3-BD44-4588-A438-1D68537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B2D-6862-4F79-A2BD-8152F8A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854-3E8F-442D-8D1D-D311281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D74-E8EF-4DD0-AE97-5590EBE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CEF-3690-4A73-9662-91BE8AC8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347-ED6A-472E-9AA1-CD797CAA6F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fred O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rcil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al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e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ncessant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oign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lancho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uccess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wing no pity or kind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front military line that protects against the enemy; noticeable or str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ldiers guarding some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tin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enetrating, effective, shar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es of people or ob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llowing one after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nch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lo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j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vinc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o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hriv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ck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2864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sual lack of conce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cre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de sma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conqu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wi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ying and wrink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acting into wrink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62864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hrase used to make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more vivid by using ‘like’ or ‘as’ to compare two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09:30Z</dcterms:modified>
  <cp:revision>35</cp:revision>
  <dc:subject/>
  <dc:title>La Belle Dame Sans Merci</dc:title>
</cp:coreProperties>
</file>